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F83-0783-45AA-992E-316BE50A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782-88CD-4C98-8C56-61EBDA1B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41D-3CEF-4BCF-B9F5-5C38F4D9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F9E-0080-4F9F-B786-1857024E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590-E05E-4005-905B-7CB7C8D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39D-BE05-441E-9B32-41CBF597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52FF-86BA-4F5E-AD22-A764BEAB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A2F7-4D6C-4578-B6D3-2C39B5B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A23C-604B-492E-BDD2-E32FEA1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9DB0-48B1-4BEA-970A-96EA77A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9929-A806-445D-9EF7-DA664EB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B6B-A5E6-4946-926A-D30332CB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E962-80A4-4B7C-B781-AB470C1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4EA-F9C6-4D0A-B843-4794CCB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76D8-5842-4403-AE3F-8A1695C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5F0-1CD3-4700-9D09-162A1646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DF2-9E37-424C-98FC-84A932F0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6E9C-96B8-4862-B578-BAE62698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17E6-4792-4FEF-8B47-EF9DF43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A5C2-4108-41DF-857A-C3861E3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93A1-7600-4BA8-94A1-32DF767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4D20-DEAF-4C29-8884-852A34BA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FB0-F33F-4784-96E5-F6085DF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C167-587D-424D-A297-A54E8B8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EB89-EC5A-4F3A-AB22-A20AF46D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6638-4EDC-4C54-8B2D-69D8146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D0C9-48F7-4082-B93F-7493188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504D-7711-40AA-9A9A-D706288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0C4F-5EAD-4C03-9A1F-35AB871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4B57-B142-4177-AE0D-5D6978EB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C764-8CFB-4A3B-A214-E3FC47C1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0173-36AB-4A64-BCEF-FDAB87C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54A7-8453-4E73-8E1B-875DFE0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F79-D5CF-441E-A057-9FE343D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8069-8580-4B48-87ED-6D1009C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E86A-676D-4270-949A-EBB8C2C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C1E6-7137-492D-9413-B82D9AE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2E49-47A1-4374-9263-ED8E944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9D8E-767D-458C-8665-C2DD066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1FB3-5B96-4552-B158-8DB430B4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87F8-CC8C-4D7E-8D1A-0BD068BC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5760-9FB8-4F59-856D-4EF3F4A8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3CCC-A053-4DB1-AB13-19D66197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4DC-72FC-44A4-94B0-4DB6DD7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4E2-72E6-42A3-A08C-222AF82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86F-7BEA-4787-AEDB-3BB69DD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089-D147-4159-A3BF-20054B6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936-72A0-4E81-8416-A4B4241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959-E7E7-4B3A-B5C5-4C0AD3A0C0D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B10-DE95-4D5C-81D5-7FEAF378CA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82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83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165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168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172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7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8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376-23C8-45FE-AF38-277EC08C1F6B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219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20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303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306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309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52D-E376-4B83-8725-92AA6DE6EE6E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Coming of the Civil Wa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Unit Five – Chapters 17-2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27-433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red Scott C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utcom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rash of 1857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incoln vs. Dougla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eport Doctrin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uture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rise and fall of John Brow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34-441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olitical Party Chang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Democra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stitutional Uni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publica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6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ess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rittenden Compromi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lantation System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60-371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lanter Aristocracy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s on Southern society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lantation system issu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conomic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ocia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ife in Slavery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ree Blacks vs. Slav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Abolitionist Movement 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71-37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Key Figu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illiam Lloyd Garris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derick Douglas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rriet Beecher Stow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outhern Respon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at Turner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ppy life of the Slave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Manifest Destiny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80-38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John Tyle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roostook Wa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exa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 of statehood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regon Feve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anifest Destiny and the Election of 1844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olk’s Administration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88-39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regon territory resolu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ssues with Mexic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lidell missi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exican – American Wa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ilmot Provis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uture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reaty of Guadalupe Hidalg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alifornia / Southern Grievances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00-407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48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e-Soiler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alifornia Gold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outhern Issu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nderground railroad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Balanc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ompromise of 1850 / Election of 1852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07-414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ompromise of 185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lay-Webster vs. Calhou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dition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 /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52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andidates / Platform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ierce’s Administra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stend Manifest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Gadsden Purchase/Kansas-Nebraska Act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 Pages 414- 41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adsden Purch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Kansas – Nebraska Ac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Go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publican Party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ontest for Kansas / Election of 1856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20-427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ebrascals vs. Border ruffian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John Brown’s first appearanc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ecompton Constitu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Crime against Kansas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56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20:21:02Z</dcterms:created>
  <dc:creator> </dc:creator>
  <dc:description/>
  <cp:keywords/>
  <dc:language>en-US</dc:language>
  <cp:lastModifiedBy>School District U46</cp:lastModifiedBy>
  <dcterms:modified xsi:type="dcterms:W3CDTF">2008-11-05T21:30:27Z</dcterms:modified>
  <cp:revision>61</cp:revision>
  <dc:subject/>
  <dc:title>The Coming of the Civil W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